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679-294E-4A01-A153-7654909E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065-498A-4AF6-A109-643E0A60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5EA-EBF9-4874-A5FB-CD69C829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937-F8A2-4286-8D6F-A80CDBB9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DEF2D-663F-4855-AC29-300672AA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BA44C-8642-4A79-A081-3963001B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948BF-2C1F-4BCF-A1F7-551CD0BF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15DDB-CD28-41D3-B9A3-AC2BE627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D0511-3100-4BD5-8B44-91F9F40A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F893E-9F4E-446B-9528-C78F44E5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3FC54-7E5A-4B2B-82B9-BE90614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D0F-489A-4FAA-8C04-4C5CAAD3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3BFE4-17FD-46D6-949D-77C40363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58D4D-33C2-489E-8701-37DB1425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94EA9-CA5B-4DE2-B4AF-01E415DD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9D54E-FC2E-4D75-9999-2A5C2DE3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F0A18-1854-4BA3-A579-0ED991B3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84D0-40CA-4694-9C97-3304D394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0399-83BC-4304-96A5-5CCDE226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7CA1-F7B4-4C4C-9A5E-58571C9B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D01C-DF4C-4771-AF61-FDB4A1D7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FE3EE-0DAC-4C0D-818C-F94A6700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599-845A-4FE7-91B8-6C478478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CB47-844C-40B3-AE12-9BCB1C1D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4691-635F-4FD1-8F4E-19F74DB9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F6CE-CEA9-41B5-B4CF-DBAA41E9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94C74-1C60-41B0-9654-C08DD8B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6341-14C4-4E75-8804-AB6A2AFE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273F-4C11-4ABC-B259-4419044C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F898A-E8BB-4F24-959F-F9708D97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F7217-B556-4BC6-AA26-FF56D84C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894AD-5F58-4433-B264-5CE7A5CC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7979EF-FBE2-4C38-BB06-065DA473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3FE-CD47-4914-B464-8E682A62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A33DC-F38C-48CC-9E64-40AF9138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2B207-BFE9-4139-9331-4986AC78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540D7-CD87-41CC-9EC8-F879D9C5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26707-4E1D-494A-B4EE-AD85C1B6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F7439-1E9F-4531-9900-EC66D4BE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20A1C-5FF7-4C52-AF83-0852F21B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0AF81-7000-48D6-9A29-75ACDF51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B9CC7B-F2A9-42FA-AD5E-CEF44E5D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9397D-BFF0-410E-8FCA-AB6E333C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117-1FC6-45BD-BFE7-D73D5885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0E6-9426-45B9-A735-F21D314B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2C7-6074-42BC-A0E4-EA240F65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535-4771-4B30-8947-4711B68D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0CF-1CAE-4B1E-ABA2-0B940A29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6E8B-6816-407A-A344-02DFBED2066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2353-A5F9-4E8C-8789-FE90247BF21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4FC4-958A-426F-8ECE-160252D370E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358D-6F29-49B4-8ED8-2E190E8432B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Bookman Old Style"/>
              </a:rPr>
              <a:t>By Albert Rosenau </a:t>
            </a:r>
            <a:r>
              <a:rPr b="0" lang="ja-JP" sz="2200" spc="-1" strike="noStrike">
                <a:solidFill>
                  <a:srgbClr val="fefac9"/>
                </a:solidFill>
                <a:latin typeface="Bookman Old Style"/>
                <a:ea typeface="HG明朝E"/>
              </a:rPr>
              <a:t>アルバートロセナ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Bookman Old Style"/>
              </a:rPr>
              <a:t>And Adas Adam Joniec</a:t>
            </a:r>
            <a:r>
              <a:rPr b="0" lang="ja-JP" sz="2200" spc="-1" strike="noStrike">
                <a:solidFill>
                  <a:srgbClr val="fefac9"/>
                </a:solidFill>
                <a:latin typeface="Bookman Old Style"/>
                <a:ea typeface="HG明朝E"/>
              </a:rPr>
              <a:t>　アダシアダメヨニエツ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mo is a competitive full contact wrestling sport with two wrestlers (or rikishi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力士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). It is preformed on a pad of clay with a layer of sand. It originated from Japan and this is the only place where it is practiced professional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3090960" y="3657600"/>
            <a:ext cx="4000320" cy="2724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Sumo, the wrestler (or rikishi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力士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ies to force th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ther wrestler out of a ring (or  dohyō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土俵）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 to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uch the ground with anything other than the sol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 their fee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2590920" y="3048120"/>
            <a:ext cx="438156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mo is considered a gendai budō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現代ぶどお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(moder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martial art) but its history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has been around for man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centuries. It was used as a trial of strength in battle, an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was associated with the Shinto Religion as a ritu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3505320" y="3597120"/>
            <a:ext cx="2301840" cy="2705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es, Sumo was a ritual for the Shinto Religion, in certa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hrines it was even a form of ritual dance where 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uman wrestled with a Kami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神（かみ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or a Shinto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Divine Spirit)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was an important ritual at th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perial Cour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3189240" y="3510000"/>
            <a:ext cx="4273560" cy="294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mo has many ancient traditions, including salt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urification from when Sumo was used in Shinto. The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so stomp on the mat to scare away demon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609480" y="3219480"/>
            <a:ext cx="373716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510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25360" y="341280"/>
            <a:ext cx="8461440" cy="178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1665360" y="1828800"/>
            <a:ext cx="5600520" cy="447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here are many, many types of martial arts around the worl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We are concentrating on 4 Japanese arts: Ninjutsu, Judo, Karate, and Sum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2577960" y="2505240"/>
            <a:ext cx="3378240" cy="2719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Title 2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553600" cy="1603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92160" y="152280"/>
            <a:ext cx="8594640" cy="1633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ntent Placeholder 3" descr=""/>
          <p:cNvPicPr/>
          <p:nvPr/>
        </p:nvPicPr>
        <p:blipFill>
          <a:blip r:embed="rId1"/>
          <a:stretch/>
        </p:blipFill>
        <p:spPr>
          <a:xfrm>
            <a:off x="838080" y="1319040"/>
            <a:ext cx="7696440" cy="5134320"/>
          </a:xfrm>
          <a:prstGeom prst="rect">
            <a:avLst/>
          </a:prstGeom>
          <a:ln w="0">
            <a:noFill/>
          </a:ln>
        </p:spPr>
      </p:pic>
      <p:pic>
        <p:nvPicPr>
          <p:cNvPr id="180" name="Title 2" descr=""/>
          <p:cNvPicPr/>
          <p:nvPr/>
        </p:nvPicPr>
        <p:blipFill>
          <a:blip r:embed="rId2"/>
          <a:stretch/>
        </p:blipFill>
        <p:spPr>
          <a:xfrm>
            <a:off x="0" y="-55440"/>
            <a:ext cx="8686800" cy="1927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udo is a modern competitive martial art, combat, and Olympic sport. Judo is all about the flexible or efficient use of balance, leverage, and movement in the form of throws and other skil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905120" y="3276720"/>
            <a:ext cx="540072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object of judo is to either throw or takedown a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pponent, immobilize or subdue them, or force them to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bmit. You cant strike the opponent with hands or fe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less in pre arranged form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2476440" y="3429000"/>
            <a:ext cx="4191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udo was created in japan in 1882 by Jigoro Kano. It is 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ndai budō </a:t>
            </a:r>
            <a:r>
              <a:rPr b="0" lang="ja-JP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現代ぶどお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HG明朝E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dern martial art), and it i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the Olympic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3092400" y="2590920"/>
            <a:ext cx="53215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92160" y="152280"/>
            <a:ext cx="8594640" cy="1633680"/>
          </a:xfrm>
          <a:prstGeom prst="rect">
            <a:avLst/>
          </a:prstGeom>
          <a:ln w="0">
            <a:noFill/>
          </a:ln>
        </p:spPr>
      </p:pic>
      <p:pic>
        <p:nvPicPr>
          <p:cNvPr id="191" name="Content Placeholder 7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335592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8:58:09Z</dcterms:created>
  <dc:creator>Albert Rosenau</dc:creator>
  <dc:description/>
  <dc:language>en-US</dc:language>
  <cp:lastModifiedBy>Albert Rosenau</cp:lastModifiedBy>
  <dcterms:modified xsi:type="dcterms:W3CDTF">2012-12-11T19:41:56Z</dcterms:modified>
  <cp:revision>19</cp:revision>
  <dc:subject/>
  <dc:title>Martial Arts</dc:title>
</cp:coreProperties>
</file>